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B16-DDEB-4C62-A983-150F05BD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06B-2A7B-46E6-87E5-53BABF9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A59-A175-48E4-A210-2942DE8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97D-BC8E-4413-9801-1109EC12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B1B-9982-4BA7-9C05-E60D91B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5E7-ED7B-44BB-ADD8-8F76628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C3B-BE2C-495C-8B7F-45CD4630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072-F364-4307-AC5C-90C00D1E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EC3-E74D-4A24-88D6-DFB1FF88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42F-1102-400D-B90E-DFF9627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F33-3C34-44D5-8F38-323CA56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769-5B86-4CF2-BD57-211EF89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C35-0E6A-4797-B604-6C8FF66E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estri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1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71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52480" y="43434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3276720"/>
            <a:ext cx="10670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5344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55344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2193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58000" y="1828800"/>
            <a:ext cx="990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391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15200" cy="37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05:10Z</dcterms:modified>
  <cp:revision>44</cp:revision>
  <dc:subject/>
  <dc:title>PowerPoint Presentation</dc:title>
</cp:coreProperties>
</file>